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10F-0034-4DA1-A230-7B7C598B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B25-7065-415F-901B-E68A702E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7381-B6A2-4C10-8659-E09AE8D6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FC4-6E5F-489C-A0A8-ECD90005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BE83-C0C9-48B0-B81D-1CDC1451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EEE-3B83-4395-A2FB-5EC3D880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EF9-B807-4BF4-AD6C-DFF76222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0B0-2A99-4B86-8A9B-80D685FC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0EA-CB53-415E-A1C8-ABC47392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894-17EB-4EC1-9286-789E7A1A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3EF-8602-4971-ADAE-2BB87432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807-CD59-4631-B80D-B9065914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2182-2612-49D0-80BE-32801224C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380880"/>
            <a:ext cx="8153280" cy="1465920"/>
            <a:chOff x="304920" y="380880"/>
            <a:chExt cx="8153280" cy="1465920"/>
          </a:xfrm>
        </p:grpSpPr>
        <p:sp>
          <p:nvSpPr>
            <p:cNvPr id="42" name=""/>
            <p:cNvSpPr/>
            <p:nvPr/>
          </p:nvSpPr>
          <p:spPr>
            <a:xfrm>
              <a:off x="304920" y="1066680"/>
              <a:ext cx="8076960" cy="7621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304920" y="380880"/>
              <a:ext cx="8153280" cy="1465920"/>
              <a:chOff x="304920" y="380880"/>
              <a:chExt cx="8153280" cy="1465920"/>
            </a:xfrm>
          </p:grpSpPr>
          <p:sp>
            <p:nvSpPr>
              <p:cNvPr id="44" name=""/>
              <p:cNvSpPr/>
              <p:nvPr/>
            </p:nvSpPr>
            <p:spPr>
              <a:xfrm>
                <a:off x="1371600" y="380880"/>
                <a:ext cx="6629400" cy="5335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99"/>
                    </a:solidFill>
                    <a:latin typeface="Comic Sans MS"/>
                  </a:rPr>
                  <a:t>Discrete and Continuous Dat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04920" y="1143000"/>
                <a:ext cx="3657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Discrete</a:t>
                </a:r>
                <a:r>
                  <a:rPr b="0" lang="en-US" sz="2000" spc="-1" strike="noStrike">
                    <a:solidFill>
                      <a:srgbClr val="3333cc"/>
                    </a:solidFill>
                    <a:latin typeface="Comic Sans MS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ata can only take on certain individual values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724280" y="1143000"/>
                <a:ext cx="3733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Continu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data can take on any value in a certain range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5029200" y="1752480"/>
            <a:ext cx="4114800" cy="1598760"/>
            <a:chOff x="5029200" y="1752480"/>
            <a:chExt cx="4114800" cy="1598760"/>
          </a:xfrm>
        </p:grpSpPr>
        <p:sp>
          <p:nvSpPr>
            <p:cNvPr id="48" name=""/>
            <p:cNvSpPr/>
            <p:nvPr/>
          </p:nvSpPr>
          <p:spPr>
            <a:xfrm>
              <a:off x="5029200" y="1905120"/>
              <a:ext cx="29718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2cb5"/>
                  </a:solidFill>
                  <a:latin typeface="Comic Sans MS"/>
                </a:rPr>
                <a:t>Example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Length of a film is a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ontinuous variab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" name="g0411577" descr=""/>
            <p:cNvPicPr/>
            <p:nvPr/>
          </p:nvPicPr>
          <p:blipFill>
            <a:blip r:embed="rId1"/>
            <a:stretch/>
          </p:blipFill>
          <p:spPr>
            <a:xfrm>
              <a:off x="7683480" y="1752480"/>
              <a:ext cx="1460520" cy="159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" name=""/>
          <p:cNvGrpSpPr/>
          <p:nvPr/>
        </p:nvGrpSpPr>
        <p:grpSpPr>
          <a:xfrm>
            <a:off x="228600" y="1905120"/>
            <a:ext cx="4456080" cy="1245960"/>
            <a:chOff x="228600" y="1905120"/>
            <a:chExt cx="4456080" cy="1245960"/>
          </a:xfrm>
        </p:grpSpPr>
        <p:sp>
          <p:nvSpPr>
            <p:cNvPr id="51" name=""/>
            <p:cNvSpPr/>
            <p:nvPr/>
          </p:nvSpPr>
          <p:spPr>
            <a:xfrm>
              <a:off x="228600" y="1905120"/>
              <a:ext cx="358128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2cb5"/>
                  </a:solidFill>
                  <a:latin typeface="Comic Sans MS"/>
                </a:rPr>
                <a:t>Exampl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umber of pages in a book is a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iscrete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variab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g0174171" descr=""/>
            <p:cNvPicPr/>
            <p:nvPr/>
          </p:nvPicPr>
          <p:blipFill>
            <a:blip r:embed="rId2"/>
            <a:stretch/>
          </p:blipFill>
          <p:spPr>
            <a:xfrm>
              <a:off x="3581280" y="2057400"/>
              <a:ext cx="1103400" cy="10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"/>
          <p:cNvGrpSpPr/>
          <p:nvPr/>
        </p:nvGrpSpPr>
        <p:grpSpPr>
          <a:xfrm>
            <a:off x="228600" y="3276720"/>
            <a:ext cx="4724280" cy="1472400"/>
            <a:chOff x="228600" y="3276720"/>
            <a:chExt cx="4724280" cy="1472400"/>
          </a:xfrm>
        </p:grpSpPr>
        <p:sp>
          <p:nvSpPr>
            <p:cNvPr id="54" name=""/>
            <p:cNvSpPr/>
            <p:nvPr/>
          </p:nvSpPr>
          <p:spPr>
            <a:xfrm>
              <a:off x="228600" y="3276720"/>
              <a:ext cx="365760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2cb5"/>
                  </a:solidFill>
                  <a:latin typeface="Comic Sans MS"/>
                </a:rPr>
                <a:t>Example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hoe size is a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iscrete variable.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 E.g.  5, 5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½, 6, 6½ etc. 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Comic Sans MS"/>
                  <a:ea typeface="Times New Roman"/>
                </a:rPr>
                <a:t>Not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Times New Roman"/>
                </a:rPr>
                <a:t> in betwe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g0209930" descr=""/>
            <p:cNvPicPr/>
            <p:nvPr/>
          </p:nvPicPr>
          <p:blipFill>
            <a:blip r:embed="rId3"/>
            <a:stretch/>
          </p:blipFill>
          <p:spPr>
            <a:xfrm>
              <a:off x="3429000" y="3886200"/>
              <a:ext cx="1523880" cy="77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5105520" y="3352680"/>
            <a:ext cx="4038480" cy="1382760"/>
            <a:chOff x="5105520" y="3352680"/>
            <a:chExt cx="4038480" cy="1382760"/>
          </a:xfrm>
        </p:grpSpPr>
        <p:sp>
          <p:nvSpPr>
            <p:cNvPr id="57" name=""/>
            <p:cNvSpPr/>
            <p:nvPr/>
          </p:nvSpPr>
          <p:spPr>
            <a:xfrm>
              <a:off x="5105520" y="3352680"/>
              <a:ext cx="29718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2cb5"/>
                  </a:solidFill>
                  <a:latin typeface="Comic Sans MS"/>
                </a:rPr>
                <a:t>Example 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emperature is a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ontinuous variab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7924680" y="3657600"/>
              <a:ext cx="1219320" cy="10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" name=""/>
          <p:cNvGrpSpPr/>
          <p:nvPr/>
        </p:nvGrpSpPr>
        <p:grpSpPr>
          <a:xfrm>
            <a:off x="304920" y="5105520"/>
            <a:ext cx="4419360" cy="1472400"/>
            <a:chOff x="304920" y="5105520"/>
            <a:chExt cx="4419360" cy="1472400"/>
          </a:xfrm>
        </p:grpSpPr>
        <p:sp>
          <p:nvSpPr>
            <p:cNvPr id="60" name=""/>
            <p:cNvSpPr/>
            <p:nvPr/>
          </p:nvSpPr>
          <p:spPr>
            <a:xfrm>
              <a:off x="304920" y="5105520"/>
              <a:ext cx="3047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2cb5"/>
                  </a:solidFill>
                  <a:latin typeface="Comic Sans MS"/>
                </a:rPr>
                <a:t>Example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umber of people in a race is a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discrete variab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3200400" y="5105520"/>
              <a:ext cx="1523880" cy="117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4952880" y="5029200"/>
            <a:ext cx="3962520" cy="1236600"/>
            <a:chOff x="4952880" y="5029200"/>
            <a:chExt cx="3962520" cy="1236600"/>
          </a:xfrm>
        </p:grpSpPr>
        <p:sp>
          <p:nvSpPr>
            <p:cNvPr id="63" name=""/>
            <p:cNvSpPr/>
            <p:nvPr/>
          </p:nvSpPr>
          <p:spPr>
            <a:xfrm>
              <a:off x="4952880" y="5029200"/>
              <a:ext cx="335304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2cb5"/>
                  </a:solidFill>
                  <a:latin typeface="Comic Sans MS"/>
                </a:rPr>
                <a:t>Example 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ime taken to run a race is a </a:t>
              </a: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continuous variabl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848720" y="5257800"/>
              <a:ext cx="1066680" cy="100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e9d9e"/>
            </a:gs>
            <a:gs pos="50000">
              <a:srgbClr val="c0eff0"/>
            </a:gs>
            <a:gs pos="100000">
              <a:srgbClr val="7e9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228600"/>
            <a:ext cx="8915400" cy="6629400"/>
            <a:chOff x="0" y="228600"/>
            <a:chExt cx="8915400" cy="6629400"/>
          </a:xfrm>
        </p:grpSpPr>
        <p:sp>
          <p:nvSpPr>
            <p:cNvPr id="66" name=""/>
            <p:cNvSpPr/>
            <p:nvPr/>
          </p:nvSpPr>
          <p:spPr>
            <a:xfrm>
              <a:off x="457200" y="1219320"/>
              <a:ext cx="2514600" cy="1218960"/>
            </a:xfrm>
            <a:prstGeom prst="cloudCallout">
              <a:avLst>
                <a:gd name="adj1" fmla="val 56250"/>
                <a:gd name="adj2" fmla="val 906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Volume of a cereal bo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38680" y="1143000"/>
              <a:ext cx="2514600" cy="1219320"/>
            </a:xfrm>
            <a:prstGeom prst="cloudCallout">
              <a:avLst>
                <a:gd name="adj1" fmla="val -43750"/>
                <a:gd name="adj2" fmla="val 700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Population of a tow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0880" y="5410080"/>
              <a:ext cx="2590920" cy="1447920"/>
            </a:xfrm>
            <a:prstGeom prst="cloudCallout">
              <a:avLst>
                <a:gd name="adj1" fmla="val 62009"/>
                <a:gd name="adj2" fmla="val -9331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Number of goals in a seas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172200" y="5410080"/>
              <a:ext cx="2743200" cy="1447920"/>
            </a:xfrm>
            <a:prstGeom prst="cloudCallout">
              <a:avLst>
                <a:gd name="adj1" fmla="val -51388"/>
                <a:gd name="adj2" fmla="val -8782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Number of matches in a box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324480" y="2819520"/>
              <a:ext cx="2514600" cy="1218960"/>
            </a:xfrm>
            <a:prstGeom prst="cloudCallout">
              <a:avLst>
                <a:gd name="adj1" fmla="val -77148"/>
                <a:gd name="adj2" fmla="val 12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Length of a crocodi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3200400"/>
              <a:ext cx="2514600" cy="1219320"/>
            </a:xfrm>
            <a:prstGeom prst="cloudCallout">
              <a:avLst>
                <a:gd name="adj1" fmla="val 75379"/>
                <a:gd name="adj2" fmla="val -3255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Shirt collar siz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76720" y="762120"/>
              <a:ext cx="2514600" cy="1218960"/>
            </a:xfrm>
            <a:prstGeom prst="cloudCallout">
              <a:avLst>
                <a:gd name="adj1" fmla="val 8208"/>
                <a:gd name="adj2" fmla="val 97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Speed of a ca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76720" y="5486400"/>
              <a:ext cx="2590560" cy="1295280"/>
            </a:xfrm>
            <a:prstGeom prst="cloudCallout">
              <a:avLst>
                <a:gd name="adj1" fmla="val -13726"/>
                <a:gd name="adj2" fmla="val -976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Temperature of oven</a:t>
              </a:r>
              <a:r>
                <a:rPr b="0" lang="en-US" sz="2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90920" y="2209680"/>
              <a:ext cx="3733560" cy="2971800"/>
            </a:xfrm>
            <a:prstGeom prst="sun">
              <a:avLst>
                <a:gd name="adj" fmla="val 25000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57600" y="3276720"/>
              <a:ext cx="17524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Discrete? Continuous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8600" y="228600"/>
              <a:ext cx="8686800" cy="4597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Group the following as either discrete or continuous dat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e9d9e"/>
            </a:gs>
            <a:gs pos="50000">
              <a:srgbClr val="c0eff0"/>
            </a:gs>
            <a:gs pos="100000">
              <a:srgbClr val="7e9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1143000"/>
            <a:ext cx="2514600" cy="1219320"/>
          </a:xfrm>
          <a:prstGeom prst="cloudCallout">
            <a:avLst>
              <a:gd name="adj1" fmla="val -10416"/>
              <a:gd name="adj2" fmla="val 31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Volume of a cereal b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1066680"/>
            <a:ext cx="2514600" cy="1219320"/>
          </a:xfrm>
          <a:prstGeom prst="cloudCallout">
            <a:avLst>
              <a:gd name="adj1" fmla="val -42990"/>
              <a:gd name="adj2" fmla="val 575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opulation of a t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5029200"/>
            <a:ext cx="2590560" cy="1447920"/>
          </a:xfrm>
          <a:prstGeom prst="cloudCallout">
            <a:avLst>
              <a:gd name="adj1" fmla="val 32597"/>
              <a:gd name="adj2" fmla="val -498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mber of goals in a seas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520" y="2286000"/>
            <a:ext cx="2743200" cy="1447920"/>
          </a:xfrm>
          <a:prstGeom prst="cloudCallout">
            <a:avLst>
              <a:gd name="adj1" fmla="val -40972"/>
              <a:gd name="adj2" fmla="val -733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umber of matches in a bo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657600"/>
            <a:ext cx="2514600" cy="1219320"/>
          </a:xfrm>
          <a:prstGeom prst="cloudCallout">
            <a:avLst>
              <a:gd name="adj1" fmla="val -40782"/>
              <a:gd name="adj2" fmla="val 126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ength of a crocod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809880"/>
            <a:ext cx="2514600" cy="1219320"/>
          </a:xfrm>
          <a:prstGeom prst="cloudCallout">
            <a:avLst>
              <a:gd name="adj1" fmla="val 33712"/>
              <a:gd name="adj2" fmla="val -528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hirt collar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2362320"/>
            <a:ext cx="2514600" cy="1218960"/>
          </a:xfrm>
          <a:prstGeom prst="cloudCallout">
            <a:avLst>
              <a:gd name="adj1" fmla="val -12245"/>
              <a:gd name="adj2" fmla="val 424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p speed of a c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5105520"/>
            <a:ext cx="2590920" cy="1295280"/>
          </a:xfrm>
          <a:prstGeom prst="cloudCallout">
            <a:avLst>
              <a:gd name="adj1" fmla="val -16666"/>
              <a:gd name="adj2" fmla="val -46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erature of ov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6" name=""/>
            <p:cNvSpPr/>
            <p:nvPr/>
          </p:nvSpPr>
          <p:spPr>
            <a:xfrm>
              <a:off x="1066680" y="228600"/>
              <a:ext cx="25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ff"/>
                  </a:solidFill>
                  <a:latin typeface="Comic Sans MS"/>
                </a:rPr>
                <a:t>Discret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10080" y="228600"/>
              <a:ext cx="3276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ff"/>
                  </a:solidFill>
                  <a:latin typeface="Comic Sans MS"/>
                </a:rPr>
                <a:t>Continuou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95680" y="0"/>
              <a:ext cx="0" cy="68580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16:06:56Z</dcterms:created>
  <dc:creator>MIKE CROWLEY</dc:creator>
  <dc:description/>
  <dc:language>en-US</dc:language>
  <cp:lastModifiedBy>MIKE CROWLEY</cp:lastModifiedBy>
  <dcterms:modified xsi:type="dcterms:W3CDTF">2003-11-29T16:07:47Z</dcterms:modified>
  <cp:revision>1</cp:revision>
  <dc:subject/>
  <dc:title>PowerPoint Presentation</dc:title>
</cp:coreProperties>
</file>